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875E-1770-4ADD-ADC1-ED7457090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14B7-558D-476A-A14D-A1EBF801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4592-E6D7-4E36-8E72-B09C4CAF0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5E61-0428-4D56-873B-2A58E580F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6286-80B8-44A6-92D4-A3F02326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EBB5-5B41-42EC-B0E2-F4DF503B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E44F-38CE-4979-93CD-10B73581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7845-505C-4F71-9BAA-B3881BDA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3942-F976-4785-BAE0-9E961CDA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6CD2-8B01-4D4C-8574-73BDE6E7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F643-265D-4125-9829-483222CC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E6E5-4809-489A-BD9E-C86D367F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DDC55-C701-4A6E-A4A9-A632D3203297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ar.mp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alk.mp3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speak%20softly.mp3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yes%202.mp3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lips.mp3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ps.mp3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food.mp3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ew.mp3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kind.mp3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olite.mp3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est.mp3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isten to the guide. Don't make any noi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79680" y="1768320"/>
            <a:ext cx="511956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alk quietly. Don't r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85920" y="1768320"/>
            <a:ext cx="570708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peak softly. Don't shou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1640" y="1768320"/>
            <a:ext cx="399420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ook for informations on memoria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36760" y="1768320"/>
            <a:ext cx="7199280" cy="498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't talk. Be quie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38400" y="1768320"/>
            <a:ext cx="7603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o caps. Leave them hom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38200" y="1768320"/>
            <a:ext cx="72043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o food, no drink. Lunch in the lounge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44840" y="1768320"/>
            <a:ext cx="498960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o chewing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76200" y="1768320"/>
            <a:ext cx="752508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Be kind. Don't be nast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21040" y="1768320"/>
            <a:ext cx="4236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Be polite. Don't be rud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4800" y="1768320"/>
            <a:ext cx="88693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Be on your best behaviou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1768320"/>
            <a:ext cx="4289400" cy="4989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1T17:46:50Z</dcterms:created>
  <dc:creator>dominique  camier</dc:creator>
  <dc:description/>
  <dc:language>en-US</dc:language>
  <cp:lastModifiedBy>dominique  camier</cp:lastModifiedBy>
  <dcterms:modified xsi:type="dcterms:W3CDTF">2014-01-31T18:23:10Z</dcterms:modified>
  <cp:revision>14</cp:revision>
  <dc:subject/>
  <dc:title/>
</cp:coreProperties>
</file>